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44E-246E-44A6-80F7-0A6C929F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B8A-84DF-4206-A7AB-DB6539BC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A2E-D551-495B-90B6-CA779AC9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1A6-273B-4820-980C-773EE2EA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738-0305-425F-9F2C-C5D480E1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995-B284-4DFD-838C-74DB4D78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425-F44F-4FA5-976E-EA31FBD3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5BF-D3B8-42CD-B6A2-85C05B06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FDB-7222-42B3-8B8B-2D02E664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2D6-47D3-4961-8F89-56EA172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8F6-8456-49A0-90ED-7D1BBC6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CA7-0393-481C-9ACE-29AA54A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DF61-668D-421C-A9B5-83F75463A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oStKzbB2q0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nwaqkja6T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TCn7xAKB8Y&amp;feature=related" TargetMode="External"/><Relationship Id="rId2" Type="http://schemas.openxmlformats.org/officeDocument/2006/relationships/hyperlink" Target="http://www.youtube.com/watch?v=XU8nMKkzbT8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0HMYLSUzTU" TargetMode="External"/><Relationship Id="rId2" Type="http://schemas.openxmlformats.org/officeDocument/2006/relationships/hyperlink" Target="http://www.youtube.com/watch?v=u0HMYLSUzTU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fining the ato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mallest particle of an element that keeps its identity in a chemical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3000" y="2057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atter made from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43000" y="2438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visible to the naked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14400" y="289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critus =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ay “Hey, what about atoms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143000" y="32767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uggest the 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43000" y="36576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hey were indivisible and indestru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43000" y="40384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s did line up with later ideas on atoms, with exce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3880" y="441972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id not explain chemical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523880" y="48006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id not have basis of scientific research…best gu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ost elements occur as a mixture of 2 or 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opes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14479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ecause isotopes are in the picture, whole number ratios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43000" y="1752480"/>
            <a:ext cx="7238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tomic mass takes the weighted average mass of the atoms in a naturally occuring sample of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cludes mass and how much of the element there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8954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ATOMIC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2004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eed to know 3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505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Number of stable isotopes of the of the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8862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ass of each iso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1911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atural percent abundance of each iso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72428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tomic ma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ss of each isot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atural abundan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decimal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eriodic Tab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vie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838080" y="1447920"/>
            <a:ext cx="5791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rrangement of elements in which the elements are separated into groups based on a set of repeating proper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ows comparison of properties of one element (or group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elements) to another element (or group of el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3505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roken i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76040" y="3886200"/>
            <a:ext cx="37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Rows (horizontal) called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374120" y="4267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7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447920" y="4572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perties vary as you move a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olumns (vertical) called groups (famil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905120" y="129528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roperties vary as you move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haracteristics and properties are similar withi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066680" y="2362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PTUAL PROBLEM 4.2  PG. 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O 19 AND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2-4   Nuclear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7"/>
          <p:cNvSpPr/>
          <p:nvPr/>
        </p:nvSpPr>
        <p:spPr>
          <a:xfrm>
            <a:off x="838080" y="13716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activity: process by which nuclei emit particles and rays (r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radi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28"/>
          <p:cNvSpPr/>
          <p:nvPr/>
        </p:nvSpPr>
        <p:spPr>
          <a:xfrm>
            <a:off x="1371600" y="1981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used by nuclear reactions, which differ from chemical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29"/>
          <p:cNvSpPr/>
          <p:nvPr/>
        </p:nvSpPr>
        <p:spPr>
          <a:xfrm>
            <a:off x="1676520" y="2209680"/>
            <a:ext cx="685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n chem. Reactions, atoms tend to look to gain stability (fu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shell by losing or gaining electrons.  In nucl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s, the nuclei of unstable isotopes (radioisotope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 stability by undergoing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0"/>
          <p:cNvSpPr/>
          <p:nvPr/>
        </p:nvSpPr>
        <p:spPr>
          <a:xfrm>
            <a:off x="2286000" y="39625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changes emit large amounts of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1"/>
          <p:cNvSpPr/>
          <p:nvPr/>
        </p:nvSpPr>
        <p:spPr>
          <a:xfrm>
            <a:off x="1676520" y="426708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uclear reactions are not affected by changes in temp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, or the prescence of catalysts.  Chemic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s affected by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discovery of radioactivity blows away Dalton’s idea of ato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indi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27"/>
          <p:cNvSpPr/>
          <p:nvPr/>
        </p:nvSpPr>
        <p:spPr>
          <a:xfrm>
            <a:off x="1600200" y="14479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adioisotopes have unstable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28"/>
          <p:cNvSpPr/>
          <p:nvPr/>
        </p:nvSpPr>
        <p:spPr>
          <a:xfrm>
            <a:off x="2133720" y="16765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of a nucleus depends on the ratio of neutrons to protons and the size of the nucleus.  The bigger the spread, the more unstable the nucle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9"/>
          <p:cNvSpPr/>
          <p:nvPr/>
        </p:nvSpPr>
        <p:spPr>
          <a:xfrm>
            <a:off x="175248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nstable nuclei emit radiation during radioactiv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0"/>
          <p:cNvSpPr/>
          <p:nvPr/>
        </p:nvSpPr>
        <p:spPr>
          <a:xfrm>
            <a:off x="1295280" y="2971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ypes of radi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1"/>
          <p:cNvSpPr/>
          <p:nvPr/>
        </p:nvSpPr>
        <p:spPr>
          <a:xfrm>
            <a:off x="1447920" y="3276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lpha Radiation:  consists of helium nuclei that have been emitt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2"/>
          <p:cNvSpPr/>
          <p:nvPr/>
        </p:nvSpPr>
        <p:spPr>
          <a:xfrm>
            <a:off x="1676520" y="36576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articles called alpha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3"/>
          <p:cNvSpPr/>
          <p:nvPr/>
        </p:nvSpPr>
        <p:spPr>
          <a:xfrm>
            <a:off x="1447920" y="403848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eta Radiation: electron resulting from the breaking apart of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on, turning into a proton which remains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us and a fast moving electron is rel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34"/>
          <p:cNvSpPr/>
          <p:nvPr/>
        </p:nvSpPr>
        <p:spPr>
          <a:xfrm>
            <a:off x="1752480" y="49528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AIT…WAIT…TIME OUT.  You said a new proton cannot be created, you can never add or subtract to change the atomic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 but, unstable radioisotopes are the only excep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never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600200"/>
            <a:ext cx="7543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Gamma Radiation:  high energy photon emitted by a radioisotope (gamma 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mission of gamma radiation does not alter the atom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very dangerous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2-5   Nuclear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38080" y="12952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Force = attractive force; acts between ALL nuclear particles 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extremely close together (protons and neutr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43000" y="1828800"/>
            <a:ext cx="7391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force in the nucleus, the like charges would repel, then break ap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4400" y="2514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= 264 nuclei are stable, more than 1230 are not, therefore the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14400" y="312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decay caused by neutron to prot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219320" y="350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too many neutrons (to protons), these decay by turning a neutron into a prot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a particle = Beta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19320" y="41148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not enough neutrons  (to protons), these increase stability by turning protons into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143000" y="4724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 nuclei that have an atomic number greater than 83 are radioa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143000" y="5029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too many protons and neutrons, they undergo radioactive decay.  Most emit alpha particles = alpha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 life = time required for ½ of the nuclei of a radio isotope to decay to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14400" y="13716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fter each half life, half of the existing radioactive atoms have decayed into atoms of a new e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14400" y="19810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alf lives can be short (fraction of a second) to very long term (billions of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4068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k Democritus idea, applied the scientific method (throug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tion) and devised 4 ideas to his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14400" y="16002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lements made up of tiny indivisible particles (a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of the same element are identical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666880" y="22860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gold atom looks just like the gold atom next to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371600" y="26668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but atoms of one element are different that atoms of another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990720" y="342900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of different elements can physically mix together or can chemically combine in simple whole number ratios to form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reactions take place when atoms get separated, joined, or rearrang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…atoms of one element are NEVER changed into atoms of another element because of chemical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’s 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ontent Placeholder 3" descr="dalton.jpg"/>
          <p:cNvPicPr/>
          <p:nvPr/>
        </p:nvPicPr>
        <p:blipFill>
          <a:blip r:embed="rId1"/>
          <a:stretch/>
        </p:blipFill>
        <p:spPr>
          <a:xfrm>
            <a:off x="1371600" y="1506600"/>
            <a:ext cx="6553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:  sm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14400" y="13716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radii of atom ( radius = center to ed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4"/>
          <p:cNvCxnSpPr/>
          <p:nvPr/>
        </p:nvCxnSpPr>
        <p:spPr>
          <a:xfrm>
            <a:off x="2895120" y="1905120"/>
            <a:ext cx="17535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61" name="TextBox 5"/>
          <p:cNvSpPr/>
          <p:nvPr/>
        </p:nvSpPr>
        <p:spPr>
          <a:xfrm>
            <a:off x="914400" y="20574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em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ked eye = HA  HA  HA , r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cope = Yes (scanning tunneling microsco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ructure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838080" y="1371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Subatomic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9907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Electr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gative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066680" y="2057400"/>
            <a:ext cx="70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discovered by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oms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lum pudding model) using a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athode ray tube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(see  pg 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each electron carries one unit of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negative charge and its mass i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1/1840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the mass of a hydrogen at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mas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of electron abou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actual mass = 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9.11 x 10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he energy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14400" y="419112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Prot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itive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ugene Goldstein provide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evidence using cathode ra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ve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tual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.67 x 10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center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eutr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990720" y="144792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hadwick confirm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ve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tual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.67 x 10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center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29718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u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er of the ato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hich houses protons and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90720" y="3200400"/>
            <a:ext cx="7924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 of nucleus comes from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utherford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ho did the gold foil exp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g. 107)     This experiment involved sending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 narrow beam of alph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rticles (Helium atoms – 2 electrons  giving a double + ch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rough a thin sheet of gold foil and observing what the particl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d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majority of particl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ssed through, some deflected a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large angles, and some bounced righ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Atom (Rutherford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990720" y="1371600"/>
            <a:ext cx="75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ctrons distributed aroun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nucleus and occupy almost all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lume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ucleus very smal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 comparison with rest of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nucleus would b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size of a marble on a football field 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hich would be the rest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del turns ou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be in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aw table 4.1 on page 106 into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Distinguishing among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838080" y="137160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lls the # of protons in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each element (atom) has its own unique atomic #, whi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es it from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Hydrogen has 1 proton and Helium has 2.  Hydrog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always have 1 and can never have 2 or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838080" y="30481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tal # of protons + neutrons in a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219320" y="342900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calculate mass number by adding protons or neutrons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219320" y="4191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show mass number in shorthand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2971800" y="4724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  -------------- mas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3352680" y="4876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048120" y="5181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 -------------- atomic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op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s with different numbers of neutrons compared with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s of the at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KEY:  different number of neutrons DOES NOT change 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 (gold isotope is still g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371600" y="19810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Ne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tom = 10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sotope = 10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2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905120" y="2895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ame this Neon-22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0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2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2120" y="3200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Mas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/12 the mass of a carbon-12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66680" y="3581280"/>
            <a:ext cx="7315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ference isotope used to compare one mass to anothe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ecause we use carbon-12 (6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6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the standard, we say that a singl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1 AMU (atomic mass un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464832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owever the atomic mass of an element is not usually a whole #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57:11Z</dcterms:created>
  <dc:creator>Farwell Area Schools</dc:creator>
  <dc:description/>
  <dc:language>en-US</dc:language>
  <cp:lastModifiedBy>Customer</cp:lastModifiedBy>
  <dcterms:modified xsi:type="dcterms:W3CDTF">2009-09-23T15:22:28Z</dcterms:modified>
  <cp:revision>57</cp:revision>
  <dc:subject/>
  <dc:title>Note Guide 2.1  Defining the atom  </dc:title>
</cp:coreProperties>
</file>